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5F33-287E-4930-8E10-B58E185B9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51F-FA9B-4DB7-952C-82BA46217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B57-1B33-4886-97B0-0FDAC962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B8B-6571-4394-B5FD-55F30265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978-1674-41D9-8B41-52907491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784-D7D5-4456-8A60-42C1A6DF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035-DA14-49CF-95DA-9AF978C1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77E-F4AB-4EEE-AFFC-4B1F1031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BBC-6EED-4EF2-B3C8-4376B5F7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384-9051-4923-909C-4BB3A2F4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501-A410-4444-BA68-1390AB8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86F-A970-4824-B1EC-F3B5F79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58C-2F03-40E0-B380-7AA752EE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3D0-24B0-4638-8F3C-E29C1C4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55C7-6428-447C-BE77-DE81E2558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bbiediller.com/whatsnew.htm#new8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zone.co.uk/resources/articles/GoodPractice/classroom/Redesigning.asp" TargetMode="External"/><Relationship Id="rId2" Type="http://schemas.openxmlformats.org/officeDocument/2006/relationships/hyperlink" Target="http://www.learnnc.org/" TargetMode="External"/><Relationship Id="rId3" Type="http://schemas.openxmlformats.org/officeDocument/2006/relationships/hyperlink" Target="http://www.learnnc.org/lp/pages/734?ref=search" TargetMode="External"/><Relationship Id="rId4" Type="http://schemas.openxmlformats.org/officeDocument/2006/relationships/hyperlink" Target="http://www.scholastic.com/teachers/article/classroom-organization-physical-environment" TargetMode="External"/><Relationship Id="rId5" Type="http://schemas.openxmlformats.org/officeDocument/2006/relationships/hyperlink" Target="http://www.scholastic.com/teachers/article/introducing-kindergarteners-their-classroom" TargetMode="External"/><Relationship Id="rId6" Type="http://schemas.openxmlformats.org/officeDocument/2006/relationships/hyperlink" Target="http://www.scholastic.com/teachers/article/introducing-kindergarteners-their-classroom" TargetMode="External"/><Relationship Id="rId7" Type="http://schemas.openxmlformats.org/officeDocument/2006/relationships/hyperlink" Target="http://www.scholastic.com/teachers/article/introducing-kindergarteners-their-classroom" TargetMode="External"/><Relationship Id="rId8" Type="http://schemas.openxmlformats.org/officeDocument/2006/relationships/hyperlink" Target="http://www.scholastic.com/teachers/article/classroom-organizing-tips-encouraging-student-independence" TargetMode="External"/><Relationship Id="rId9" Type="http://schemas.openxmlformats.org/officeDocument/2006/relationships/hyperlink" Target="http://www.scholastic.com/teachers/article/classroom-organizing-tips-encouraging-student-independence" TargetMode="External"/><Relationship Id="rId10" Type="http://schemas.openxmlformats.org/officeDocument/2006/relationships/hyperlink" Target="https://printables.scholastic.com/shop/prcontent/Seating-Chart-Teacher-Resource/9780439338141-002" TargetMode="External"/><Relationship Id="rId11" Type="http://schemas.openxmlformats.org/officeDocument/2006/relationships/hyperlink" Target="https://printables.scholastic.com/shop/prcontent/Seating-Chart-Teacher-Resource/9780439338141-002" TargetMode="External"/><Relationship Id="rId12" Type="http://schemas.openxmlformats.org/officeDocument/2006/relationships/hyperlink" Target="https://printables.scholastic.com/shop/prcontent/Seating-Chart-Teacher-Resource/9780439338141-002" TargetMode="External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yteacherscafe.com/management/index.html" TargetMode="External"/><Relationship Id="rId2" Type="http://schemas.openxmlformats.org/officeDocument/2006/relationships/hyperlink" Target="http://www.busyteacherscafe.com/management/index.html" TargetMode="External"/><Relationship Id="rId3" Type="http://schemas.openxmlformats.org/officeDocument/2006/relationships/hyperlink" Target="http://www.busyteacherscafe.com/management/classsetup.html" TargetMode="External"/><Relationship Id="rId4" Type="http://schemas.openxmlformats.org/officeDocument/2006/relationships/hyperlink" Target="http://www.busyteacherscafe.com/management/classsetup.html" TargetMode="External"/><Relationship Id="rId5" Type="http://schemas.openxmlformats.org/officeDocument/2006/relationships/hyperlink" Target="http://www.mrsnelsonsclass.com/teacherresources/classroomsetup/0405/classroomsetup20042005.aspx" TargetMode="External"/><Relationship Id="rId6" Type="http://schemas.openxmlformats.org/officeDocument/2006/relationships/hyperlink" Target="http://www.mrsnelsonsclass.com/teacherresources/classroomsetup/0506/classroomsetup20052006.aspx" TargetMode="External"/><Relationship Id="rId7" Type="http://schemas.openxmlformats.org/officeDocument/2006/relationships/hyperlink" Target="http://teacher.scholastic.com/tools/class_setup/" TargetMode="External"/><Relationship Id="rId8" Type="http://schemas.openxmlformats.org/officeDocument/2006/relationships/hyperlink" Target="http://vimeo.com/59980935" TargetMode="External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lassroom Management in Photograph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Maria L. Ch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paces &amp; Plac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Debbie Di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://img1.imagesbn.com/p/9780439531450_p0_v1_s260x420.JPG"/>
          <p:cNvPicPr/>
          <p:nvPr/>
        </p:nvPicPr>
        <p:blipFill>
          <a:blip r:embed="rId1"/>
          <a:stretch/>
        </p:blipFill>
        <p:spPr>
          <a:xfrm rot="508200">
            <a:off x="6276960" y="1233360"/>
            <a:ext cx="2001960" cy="260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TextBox 1"/>
          <p:cNvSpPr/>
          <p:nvPr/>
        </p:nvSpPr>
        <p:spPr>
          <a:xfrm>
            <a:off x="3962520" y="5297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ebbiediller.com/whatsnew.htm#new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3"/>
          <a:srcRect l="11529" t="7723" r="12613" b="9202"/>
          <a:stretch/>
        </p:blipFill>
        <p:spPr>
          <a:xfrm rot="21049800">
            <a:off x="747360" y="3514320"/>
            <a:ext cx="22604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w to be an Effective Teach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Kelley Kremer &amp; Steve Reif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acher’s Guidebook for Succes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Bonnie William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ecx.images-amazon.com/images/I/51k29Wm4aUL._BO2,204,203,200_PIsitb-sticker-arrow-click,TopRight,35,-76_AA300_SH20_OU01_.jpg"/>
          <p:cNvPicPr/>
          <p:nvPr/>
        </p:nvPicPr>
        <p:blipFill>
          <a:blip r:embed="rId1"/>
          <a:srcRect l="14475" t="13719" r="21151" b="0"/>
          <a:stretch/>
        </p:blipFill>
        <p:spPr>
          <a:xfrm rot="21411600">
            <a:off x="840960" y="3411000"/>
            <a:ext cx="2209680" cy="296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cache0.bdcdn.net/assets/images/book/medium/9781/5573/9781557344694.jpg"/>
          <p:cNvPicPr/>
          <p:nvPr/>
        </p:nvPicPr>
        <p:blipFill>
          <a:blip r:embed="rId2"/>
          <a:srcRect l="9373" t="0" r="8447" b="0"/>
          <a:stretch/>
        </p:blipFill>
        <p:spPr>
          <a:xfrm rot="468000">
            <a:off x="6451560" y="1192320"/>
            <a:ext cx="186552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esigning the Classroom Environment” 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choolzone.co.uk/resources/articles/GoodPractice/classroom/Redesigning.as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Environments:  The Basics”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learnnc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learnnc.org/lp/pages/734?ref=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Organization:  The Physical Environment”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scholastic.com/teachers/article/classroom-organization-physical-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ing Kindergarteners to Their Classroom”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scholastic.com/teachers/article/introducing-kindergarteners-their-class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Organizing Tips for Encouraging Student Independence”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scholastic.com/teachers/article/classroom-organizing-tips-encouraging-student-indepen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Printables                           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rintables.scholastic.com/shop/prcontent/Seating-Chart-Teacher-Resource/9780439338141-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Kharrell.RCS\My Documents\Unused Folders\My Data Sources\My Pictures\Microsoft Clip Organizer\j0370140.wmf"/>
          <p:cNvPicPr/>
          <p:nvPr/>
        </p:nvPicPr>
        <p:blipFill>
          <a:blip r:embed="rId13"/>
          <a:stretch/>
        </p:blipFill>
        <p:spPr>
          <a:xfrm>
            <a:off x="6095880" y="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685800"/>
            <a:ext cx="8610840" cy="71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y Teacher Café (Classroom Managem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busyteacherscafe.com/management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www.busyteacherscafe.com/management/classsetup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rs. Nelson’s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www.mrsnelsonsclass.com/teacherresources/classroomsetup/0405/classroomsetup20042005.aspx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http://www.mrsnelsonsclass.com/teacherresources/classroomsetup/0506/classroomsetup20052006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Set-up T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7"/>
              </a:rPr>
              <a:t>http://teacher.scholastic.com/tools/class_setu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paces &amp; Places – Classroom Design Vide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8"/>
              </a:rPr>
              <a:t>http://vimeo.com/599809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oom Makeo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larremoreteachertips.blogspot.com/2011/10/spaces-and-places-room-makeover.html?_sm_au_=iVV5QRKq7NvQb7Z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ing Chann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s://www.teachingchannel.org/blog/2014/06/16/video-playlist-new-teacher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Documents and Settings\Kharrell.RCS\My Documents\Unused Folders\My Data Sources\My Pictures\Microsoft Clip Organizer\j0410917.wmf"/>
          <p:cNvPicPr/>
          <p:nvPr/>
        </p:nvPicPr>
        <p:blipFill>
          <a:blip r:embed="rId9"/>
          <a:stretch/>
        </p:blipFill>
        <p:spPr>
          <a:xfrm flipH="1">
            <a:off x="6933960" y="3200400"/>
            <a:ext cx="1904760" cy="18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29:59Z</dcterms:created>
  <dc:creator>Kelli Harrell</dc:creator>
  <dc:description/>
  <dc:language>en-US</dc:language>
  <cp:lastModifiedBy>Floyd, Ana</cp:lastModifiedBy>
  <cp:lastPrinted>2015-08-02T20:54:35Z</cp:lastPrinted>
  <dcterms:modified xsi:type="dcterms:W3CDTF">2016-08-02T17:36:27Z</dcterms:modified>
  <cp:revision>215</cp:revision>
  <dc:subject/>
  <dc:title>Extreme Classroom Makeover</dc:title>
</cp:coreProperties>
</file>